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3839-28BC-4046-83C5-04A5BA0D463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A4A5-8380-499D-97D9-3FC1C6D2500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14B4-1F5B-4931-8B86-B4A07D1F461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EEDE-C914-401B-BA7A-A70DC9BDCDA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9D55-BE2A-4081-97D7-CF47490022C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8002-71AE-47B7-BFD1-1FF9A2BA9F4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ADA9-A0F1-4523-AB4A-A71354EBBD3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D527-65FA-408B-BC36-85EFD7886E0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DD64-8519-40EF-A956-476014ED145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08EE-96C2-4BCC-82EA-3B69AA28A9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22EB-ED41-4292-9A5D-519FFB358CF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4524-F6FB-48BD-943C-9FFED40B2C0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C841-BBF0-427C-B612-A775FF28800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CF5C-511E-4836-97BD-46BA7A42C22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35FB-B135-4F84-9FEB-9500C4AC7D6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CDDE-AEF2-49CD-B5A9-81D3D6AB54C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D01A-4806-4A8E-BF10-4686E836C67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69C1-B04C-4186-8762-0E2343C4217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CC6E-40EA-4D06-AB4D-FDD316A536C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19AD-AB89-4082-B814-5ABEB853EC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CB6A-E3BD-4FC0-A530-E66C9C18099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FB39-26B1-48DF-B88E-CA3215800D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918A-52EB-460B-AABA-0B86C2C2CBF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349B-DB28-4373-8FAC-8861494DC52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CB49-F3CF-487F-9F6B-8BD6704B1B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4EEE-D854-429C-B522-F5BA0510705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BDFE-F5E4-4413-9629-6390189324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9F6F-E44D-478F-ADDB-4AE11E6FA2B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AD66-84A4-499D-ABB3-0D8A45AAFDA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DDB6-612C-4B19-A7C3-EE81DD3C16D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749A-89E3-4886-B357-5F8CD7B2820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1CCF-A2A6-4927-90D7-900A69E5244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2CC5-D773-450A-A62D-E70881673D0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CD33-6A38-46FD-BEFB-0D58CF7E734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10C2-34F5-4417-8174-FDF321154CE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A51C-0203-469D-A463-EF00EF1AA93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7B5B-5DA6-439F-9B9D-F719C265D6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71E5-D28C-4B3B-97E4-50ED74FB65C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1703-EAC0-4012-AE9D-292F2CD0162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F780-C89D-4385-B3D3-792A9FE0212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0DD7-6464-4124-AF95-7E5649F24C8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B8B9-415D-454C-8518-E26785491B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717A-C89B-47B6-8CCA-FB1D34AFFAE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EA9C-84A6-4226-8EFF-D934E960D4A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3772-7B06-4FB3-8792-C3E4E24639B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DF6B-A820-46C1-ACF1-7F4CC9A1B2E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90A6-31A2-4AA6-BD41-7849C2A1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838-9CCC-41FE-A212-DF43DEEA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EAD1-DD90-4FF1-9EEC-09A6F63B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570-043D-462A-8C4A-B0B684A6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C83-A6B8-4F0B-8D19-FEFBE4C2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787-70AD-4F3F-84A7-9B127DE0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0881-E116-44BF-9E23-DA4FEC15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823D-A66B-425E-95D7-63962C2D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458-C144-4B99-8DC2-44146D58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9483-4E3B-47F4-BD4D-688053C7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423-B431-45CA-8D59-A6CA2C6C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30D-17A1-4376-A756-D4B8A385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FCFE-277C-401E-953C-58F168A3B8BA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把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ǎ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개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다시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또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椅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ǐz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의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钥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yàosh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열쇠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去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qùniá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작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首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ǒ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곡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gē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노래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곡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好听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ǎotī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듣기 좋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u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덩어리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조각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手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shǒubiǎo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손목시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ò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주다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보내다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伞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우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款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u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205240"/>
            <a:ext cx="638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스타일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디자인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原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yuánlá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원래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ǎ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인터넷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0" spc="-1" strike="noStrike">
                <a:solidFill>
                  <a:srgbClr val="000000"/>
                </a:solidFill>
                <a:latin typeface="Arial"/>
              </a:rPr>
              <a:t>百货商店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012720"/>
            <a:ext cx="62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Bǎihuò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shāngdiàn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백화점</a:t>
            </a:r>
            <a:endParaRPr b="0" lang="en-US" sz="7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è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더욱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더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举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ǔ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들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ǒ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请假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ǐngjià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205240"/>
            <a:ext cx="638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휴가를 신청하다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196600"/>
            <a:ext cx="638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6600" spc="-1" strike="noStrike">
                <a:solidFill>
                  <a:srgbClr val="000000"/>
                </a:solidFill>
                <a:latin typeface="Arial"/>
              </a:rPr>
              <a:t>에 비해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, ~</a:t>
            </a:r>
            <a:r>
              <a:rPr b="0" lang="ko-KR" sz="6600" spc="-1" strike="noStrike">
                <a:solidFill>
                  <a:srgbClr val="000000"/>
                </a:solidFill>
                <a:latin typeface="Arial"/>
              </a:rPr>
              <a:t>보다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合适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ésh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알맞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바꾸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成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chéngj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성적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ē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짙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hu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망가지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但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dànsh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그러나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价格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àgé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격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69060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xiǎo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작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优惠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ōuhu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혜택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ē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152320"/>
            <a:ext cx="63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Arial"/>
              </a:rPr>
              <a:t>잔을 세는 양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座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zuò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4940280"/>
            <a:ext cx="6381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부피가 크거나 고정된 물체를 세는 양사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辆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lià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차량을 세는 양사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蓝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á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파랗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ji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방을 세는 양사</a:t>
            </a:r>
            <a:endParaRPr b="0" lang="en-US" sz="7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í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5152320"/>
            <a:ext cx="63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Arial"/>
              </a:rPr>
              <a:t>병을 세는 양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斤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15640" y="5317920"/>
            <a:ext cx="6381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근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무게를 세는 양사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tá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기계를 세는 양사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Arial"/>
              </a:rPr>
              <a:t>幅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fú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TextBox 8"/>
          <p:cNvSpPr/>
          <p:nvPr/>
        </p:nvSpPr>
        <p:spPr>
          <a:xfrm rot="10800000">
            <a:off x="215640" y="4962240"/>
            <a:ext cx="63817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그림이나 천으로 된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것을 세는 양사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dù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TextBox 8"/>
          <p:cNvSpPr/>
          <p:nvPr/>
        </p:nvSpPr>
        <p:spPr>
          <a:xfrm rot="10800000">
            <a:off x="215640" y="579564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끼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식사를 세는 양사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如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bùrú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만 못하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ǜ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푸르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好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ǎok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예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那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àme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러면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欢迎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huānyíng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환영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7:32:59Z</dcterms:created>
  <dc:creator>System</dc:creator>
  <dc:description/>
  <dc:language>en-US</dc:language>
  <cp:lastModifiedBy>System</cp:lastModifiedBy>
  <dcterms:modified xsi:type="dcterms:W3CDTF">2014-01-28T04:12:58Z</dcterms:modified>
  <cp:revision>6</cp:revision>
  <dc:subject/>
  <dc:title>슬라이드 1</dc:title>
</cp:coreProperties>
</file>